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F4E6-1FA7-4596-86E6-CBD8E46BF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5D7E-4758-4409-A464-2265AB1CD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A2D7-29B8-46B4-B0EF-9F485AA36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761-827F-434E-8EF9-0342AD56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692-3E9B-4A7C-A192-431D7821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DFB-2B19-4C0C-A100-D01FED36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F3B-2770-4239-9AB2-49E57E9A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6D76-FD7B-466D-9108-98E030D6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1912-A86F-4AC3-A42B-54680586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66F3-0E78-4E82-9B45-6845073D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6654-7E43-4BDC-9C7D-4898785E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B487-EC27-48B9-8230-490CC40B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9761-DFEA-4C4A-A889-C8D60E21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12E6-EE91-4BA6-945C-2B933EF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3815-1932-4997-BD95-F703228A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F0E7-447C-47B6-81FE-97FDB5C4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EFC6-DAA0-45A5-88BA-1518FBBA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32DA-975D-47CB-96BE-68F36533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D3C9-3463-4ECA-9616-2E5B1909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22D8-B28C-46F2-978F-EC52C8CD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C56-F7EC-489E-9AE3-91AE2A58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421-52F3-4D9E-A9ED-E842B3DB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A65-85C0-470A-9262-AB6E589A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740-F4C6-4DBE-9A08-502E7194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708-A9F9-47FC-8BE6-8A06231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8F5-5484-40B7-9D7F-7911D7DA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379-7EAB-4AC3-B563-944C9B38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4DA4-A65D-4C59-A8F2-33A31E9E64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82AF-1BF6-4544-B91B-1E68241B36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143000"/>
            <a:ext cx="7715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ИСТРАЖИВАЊА У СИСТЕМУ ЗДРАВСТВЕНЕ ЗАШТИТ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према и планирање научног истраживања. Постављање циљева и хипотеза. Дефинисање зависних и независних варијабли. Дизајн студије. Узорковање. Евалуација клиничког ис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0033"/>
                </a:solidFill>
                <a:latin typeface="Times New Roman"/>
              </a:rPr>
              <a:t>Дизајнирање истраживањ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сервационе студије могу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скриптивне (описне)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тврђују дистрибуцију одређених карактеристика популац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налитичк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испитују повезаност узрока и последи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Протокол клиничког испитивањ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љеви и хипот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јуми за селекцију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ема рандом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 начина примене испитиваних сред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е за прикупљање и анализу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соб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презентат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рљ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вољне велич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мерен ка циљу истраж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твар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кономич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испитаника у истраживањ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2692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во треба дефинисати критеријуме који дефинишу циљну попул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тим одредити који је минимални број испитаника у нашем узорку, а да узорак и даље буде репрезентат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 ћемо регрутовати испитанике? Да ли ће нам бити доступни? Да ли ће хтети да учествују у студиј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Врсте узора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600200"/>
            <a:ext cx="8064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годни” узо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о су испитаници који задовољавају критеријуме за избор, а лако су доступни истражив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едан за другим (узастопно) се укључују сви испитаници који су доступни истражив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Узастопни узорак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је пожељан када обухвата целу доступну популацију, кроз временски период који је довољно д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Врсте узора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11280" y="1600200"/>
            <a:ext cx="8208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лучајни узорак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је златни стандард за обезбеђење могућности генерализације закључака. У случајном узорку свака јединка популације има подједнаку шансу да буде изаб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велич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рој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андардна гре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андардна девијациј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а основу претходне студ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5076720" y="2349360"/>
                <a:ext cx="35276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велич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број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стандардна грешк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ира се на основу резултата претходних студ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стандардна девиј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позната на основу претходне студије или се добија из пилот студије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спитан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000000"/>
                </a:solidFill>
                <a:latin typeface="Times New Roman"/>
              </a:rPr>
              <a:t>n=s</a:t>
            </a:r>
            <a:r>
              <a:rPr b="0" lang="sr-Latn-C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5400" spc="-1" strike="noStrike">
                <a:solidFill>
                  <a:srgbClr val="000000"/>
                </a:solidFill>
                <a:latin typeface="Times New Roman"/>
              </a:rPr>
              <a:t>/SE</a:t>
            </a:r>
            <a:r>
              <a:rPr b="0" lang="sr-Latn-C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велич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14400" y="2133360"/>
            <a:ext cx="77724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офтверска апликација: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* Power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 основу података из претходно извршених истраживањ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Рандомизациј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рставање испитаника методом случајног из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љ рандомизације: елиминисање узорачке пристр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xcell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пција: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rand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азлике између клиничког истраживања и клиничке пракс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869000" y="2563920"/>
            <a:ext cx="3060720" cy="324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rcRect l="0" t="0" r="11190" b="11544"/>
          <a:stretch/>
        </p:blipFill>
        <p:spPr>
          <a:xfrm>
            <a:off x="1488960" y="2567160"/>
            <a:ext cx="27561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обрење Етичког комите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ложењ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каз метод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ипотеза и очекивани резул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ја за испитанике и информисани приста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30033"/>
                </a:solidFill>
                <a:latin typeface="Times New Roman"/>
              </a:rPr>
              <a:t>Извођење студије и скупљање податак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33"/>
                </a:solidFill>
                <a:latin typeface="Times New Roman"/>
              </a:rPr>
              <a:t>Дизајн студије детерминише временски период за прикупљање подат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Анализирање подата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33"/>
                </a:solidFill>
                <a:latin typeface="Times New Roman"/>
              </a:rPr>
              <a:t>Статистичка обрада и приказ добијених резул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33"/>
                </a:solidFill>
                <a:latin typeface="Times New Roman"/>
              </a:rPr>
              <a:t>Резултати се представљају табеларно и графи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Поређење група у истраживањ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контролна г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ре експеримента (К1)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осле експеримента (К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експериментална гру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ре експеримента (Е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осле експеримента (Е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Поређење група у истраживањ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ма значајних разлика између К1 и К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је значајне разлике између Е1 и Е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је значајне разлике између Е2 и К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Публиковање резулта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У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Метод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Резул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Диску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Ефикасност у научном истраживањ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спех у научном истраживању зависи од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владавања методолошким аспектима истражив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навања области истраживања (на пример: физиологије, патофизиологије, фармакологије, дијагностике... ендокриног систем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Шта је научно истраживањ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6100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Процес тражења који ј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Систематич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описује фен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даје објашњења/ тео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тестира хипот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Кораци у спровођењу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921040" y="1778040"/>
            <a:ext cx="56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Постављање истраживачког 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67960" y="321300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Дизајнирањ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640120" y="4749840"/>
            <a:ext cx="32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Спровођењ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195920" y="479736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Анализа резул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854280" y="314964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Извођење закључ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H="1" flipV="1">
            <a:off x="5867280" y="2362320"/>
            <a:ext cx="99072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6553080" y="3809880"/>
            <a:ext cx="53352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2670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2209680" y="3733920"/>
            <a:ext cx="68580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2209320" y="2362320"/>
            <a:ext cx="114300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Фазе научног истраживањ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1. Избор и формулисање истраживачког питања (наслов ра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2. Планирање истраживања (дизајнирање студ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3. Извођење студије и скупљање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4. Анализа података (статистичка обрада и приказ добијених резулта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5. Извођење закључака (могуће формулисање нових истраживачких пит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6. Публиковање резул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Избор истраживачког питањ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вање лит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авање лит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дња са мен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раживачко питање је циљ студије, нејасност коју истраживач жели да разреши мерењима на својим испитани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Елементи истраживачког питања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ПОПУЛ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УЗРОК (НЕЗАВИСНА ВАРИЈАБЛ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ИСХОД (ЗАВИСНА ВАРИЈАБЛ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11280" y="333360"/>
            <a:ext cx="792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330033"/>
                </a:solidFill>
                <a:latin typeface="Times New Roman"/>
              </a:rPr>
              <a:t>Finer- </a:t>
            </a: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Концепт истраживањ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9640" y="2057400"/>
            <a:ext cx="7632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bl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водљиво:довољан број испитаника, техничка подршка, буџет, мали об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est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Интересан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за истраживача и стручну јав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Но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уди нову информац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Етич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поштује етичке принцип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Релева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може се имплементирати у рутинском рад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Дизајнирање истраживањ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псервацион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хорт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група се прати одређено 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удије пресе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група се испита у једном трен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удије “случај-контрола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две групе, разликују се по исх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ндомизирана, двоструко слепа клиничка студ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две групе се формирају случајним избором, а интервенција остаје скривена од испитивача и пацијената до краја студије (двоструко слепа студ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8:57:24Z</dcterms:created>
  <dc:creator>User</dc:creator>
  <dc:description/>
  <dc:language>en-US</dc:language>
  <cp:lastModifiedBy>User</cp:lastModifiedBy>
  <dcterms:modified xsi:type="dcterms:W3CDTF">2019-02-09T22:36:59Z</dcterms:modified>
  <cp:revision>32</cp:revision>
  <dc:subject/>
  <dc:title>Eksperimentalni i klinički aspekti fiziologije i patofiziologije pluća</dc:title>
</cp:coreProperties>
</file>